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3.png" ContentType="image/png"/>
  <Override PartName="/ppt/media/image21.jpeg" ContentType="image/jpeg"/>
  <Override PartName="/ppt/media/image2.wmf" ContentType="image/x-wmf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7.png" ContentType="image/png"/>
  <Override PartName="/ppt/media/image34.jpeg" ContentType="image/jpeg"/>
  <Override PartName="/ppt/media/image15.wmf" ContentType="image/x-wmf"/>
  <Override PartName="/ppt/media/image14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9.jpeg" ContentType="image/jpeg"/>
  <Override PartName="/ppt/media/image8.png" ContentType="image/png"/>
  <Override PartName="/ppt/media/image41.wmf" ContentType="image/x-wmf"/>
  <Override PartName="/ppt/media/image32.jpeg" ContentType="image/jpeg"/>
  <Override PartName="/ppt/media/image38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261-4BB2-4E11-8189-8EDE0670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B9A-4E48-4F5B-8F15-96115700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C9B-AD44-461F-AFF8-2D37550A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6F2E-0A5D-4F19-B337-EE7735A2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442D-B48B-45B9-83DE-AF74AC29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5BEF-42C4-4BCD-86DF-D21F5977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E24-03DE-4C54-A4FB-33AB35EC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6DBC-410B-407B-B5D9-04631F1D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6C72-2AC9-4774-8DFE-4403104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C651-CA58-4020-9D38-7E1DC4E4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7E56-233E-49AC-8915-E91D0F81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480-112F-4B64-AD27-0C922718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B94-F3A6-40A1-B2EE-4037F496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C071-7A94-488A-8C59-C6EDDDC2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FD4F-5DF0-4FD1-9E5F-F0708690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BC02-396E-484C-BA6F-83FF48AF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BCA4-FBEA-43CD-986B-9986991B6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15A2-FF09-472F-981D-6E78B43B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81550-9DBA-4090-9F1A-4139E6F6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6B0EA-EBB5-4FF4-BACD-9D724A8F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6E7E-B810-47F5-A65D-93456D2D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E110-6587-4D0C-B393-98699BE3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F09-380D-44B7-9C14-D15831A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4516-EE75-42BE-8E7B-A82A3F6C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7B1F-129A-4D85-82E6-BE7BC292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59527-2E71-4EEA-8DFC-9002CFDE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EB28-7E3C-4B0F-8612-1CA14570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D4477-7CCD-4CE1-B672-459A02F7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E5E6F-A75C-4F6F-8C6C-7834C411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93E6-761B-4BA5-9F99-1188D84D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0ECC-6E05-4D5E-8E1D-9F0A5753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45BAE-E2D3-4A6A-B64C-C928C52A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F0B3-6765-4F4F-8ECB-55E3537F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C180-D8E3-4233-8A31-5C4DB0A3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787B8-3376-4A61-9FC8-83A06C39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297C-0BEB-40B6-9947-C486CD95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C3F6F-A18F-45B8-AAC2-3A98FB0D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871C-FA00-4319-B16F-5813AA8C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87728-ED90-4E88-A49E-16686480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8B55-AF1B-4914-949B-9F3C0CA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B1FD-7311-48B2-98A8-4E25CBE9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2B6A-B181-4884-86BF-625A724D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79AD7-42A2-4D9C-B885-4B8CD99C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2612B-C3F5-413D-9863-3AACB60B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BAE-083F-4EEA-880E-3AFB89984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E4EE1-D8C9-4569-AAD5-F4B3B41C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64680-A851-404E-858D-FA5BDA08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BF7A2-4896-494A-9B49-EB86D1F3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255A-E0DE-4571-BC27-14DD21F4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295EF-A70B-4D10-9ED8-E0139DC9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0F889-AC4B-4704-9145-26BBC7D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57DE0-5639-4DAC-ABEB-96841900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0AC2C-2E60-4AFD-A50B-83243BCC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5E516-B57C-4804-8981-6F66EA7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26CF-72E2-4C47-AAD1-10DEA66C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1454-5269-4F08-9E14-E3EB559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A5DF-6F03-4562-806D-13F94F70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78E21-E132-43DF-A5F1-AC1156BE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B3D2D-DACC-4C33-8143-30B2A91E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761A7-8864-4292-9A53-0A7CE0ED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9DE48-E400-49F1-ACDF-F1005983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82152-61F4-4BFB-BE38-46BBFB25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E0B48-E071-4BA4-9FF1-0200B138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A2AD-6AA7-4663-A402-8BD7C7AB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BE89-240C-4249-BB8D-19AEEA99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D4A1A-C84D-4A5E-B191-2513EF7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EAC-B4A6-4B37-A4FC-13B36FD3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C8AAB-DF8A-45C1-B00C-C6D2A082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BD08-EF54-40B4-94B7-6534EED4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20390-18B6-4839-851C-FB2571B0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D3A-F201-4867-B593-D583AF7D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3CA-8E48-4B2F-9278-620C3E8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9F7D-1F31-47BC-A609-8C88C50093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12EE-1921-450D-A26A-D71FD3A5CF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E4A5-DEC8-4430-931A-2A8E4AB794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B752-5C70-4FEC-844F-3B9E019252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5764-7249-4CC5-906F-B062E267219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4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38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C9DE-33B5-4EB7-8311-35F9000BF3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627280" y="333360"/>
            <a:ext cx="1727280" cy="1488960"/>
            <a:chOff x="2627280" y="333360"/>
            <a:chExt cx="1727280" cy="1488960"/>
          </a:xfrm>
        </p:grpSpPr>
        <p:sp>
          <p:nvSpPr>
            <p:cNvPr id="281" name="Pyr1"/>
            <p:cNvSpPr/>
            <p:nvPr/>
          </p:nvSpPr>
          <p:spPr>
            <a:xfrm>
              <a:off x="3299400" y="333360"/>
              <a:ext cx="387000" cy="32976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Pyr2"/>
            <p:cNvSpPr/>
            <p:nvPr/>
          </p:nvSpPr>
          <p:spPr>
            <a:xfrm>
              <a:off x="3075120" y="663120"/>
              <a:ext cx="833400" cy="38700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Pyr3"/>
            <p:cNvSpPr/>
            <p:nvPr/>
          </p:nvSpPr>
          <p:spPr>
            <a:xfrm>
              <a:off x="2853360" y="1050480"/>
              <a:ext cx="1276920" cy="38664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Pyr4"/>
            <p:cNvSpPr/>
            <p:nvPr/>
          </p:nvSpPr>
          <p:spPr>
            <a:xfrm>
              <a:off x="2627280" y="1435320"/>
              <a:ext cx="1727280" cy="38700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403280" y="4653000"/>
            <a:ext cx="2518920" cy="1828800"/>
            <a:chOff x="1403280" y="4653000"/>
            <a:chExt cx="2518920" cy="1828800"/>
          </a:xfrm>
        </p:grpSpPr>
        <p:sp>
          <p:nvSpPr>
            <p:cNvPr id="286" name=""/>
            <p:cNvSpPr/>
            <p:nvPr/>
          </p:nvSpPr>
          <p:spPr>
            <a:xfrm>
              <a:off x="2009520" y="5026320"/>
              <a:ext cx="1298160" cy="1120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03280" y="6108480"/>
              <a:ext cx="745920" cy="3733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9600" y="4653000"/>
              <a:ext cx="746280" cy="37332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76280" y="6108480"/>
              <a:ext cx="745920" cy="37332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PubChord"/>
          <p:cNvSpPr/>
          <p:nvPr/>
        </p:nvSpPr>
        <p:spPr>
          <a:xfrm rot="16983600">
            <a:off x="5219640" y="2819160"/>
            <a:ext cx="1761840" cy="176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800000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ubPieSlice"/>
          <p:cNvSpPr/>
          <p:nvPr/>
        </p:nvSpPr>
        <p:spPr>
          <a:xfrm>
            <a:off x="4572000" y="4941720"/>
            <a:ext cx="1324080" cy="132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arcTo wR="10800" hR="10800" stAng="-5400000" swAng="-16200000"/>
                <a:lnTo>
                  <a:pt x="10800" y="108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ubTriangle"/>
          <p:cNvSpPr/>
          <p:nvPr/>
        </p:nvSpPr>
        <p:spPr>
          <a:xfrm rot="20176800">
            <a:off x="7451280" y="2707920"/>
            <a:ext cx="1397160" cy="139716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516720" y="4611600"/>
            <a:ext cx="2627280" cy="22464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19687800">
            <a:off x="93240" y="2276280"/>
            <a:ext cx="9302760" cy="21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255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Клубный час - соревнование "Математическое многоборье"</a:t>
            </a:r>
            <a:endParaRPr b="1" i="1" lang="en-US" sz="4400" spc="1" strike="noStrike">
              <a:ln w="255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 rot="20730600">
            <a:off x="324000" y="549360"/>
            <a:ext cx="1582560" cy="15606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5003640" y="88920"/>
            <a:ext cx="1708200" cy="13240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 rot="20496000">
            <a:off x="1545840" y="2349000"/>
            <a:ext cx="15130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-324360" y="188640"/>
            <a:ext cx="687708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34800" y="2061720"/>
            <a:ext cx="6479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+ 4 = 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- 4 : 4 = 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(4 + 4) : 4 · 4 = 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Comic Sans MS"/>
              </a:rPr>
              <a:t>4 + 4 + 4 : 4 =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012000" y="0"/>
            <a:ext cx="3132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3456000" cy="32558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1280" y="44280"/>
            <a:ext cx="874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Задание № 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Бег  на короткие дистан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4211640" y="1916280"/>
            <a:ext cx="4249800" cy="3273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44360" y="5589720"/>
            <a:ext cx="882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Юрий Борзаковский –    олимпийский чемпи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-36360" y="1268280"/>
            <a:ext cx="9180360" cy="5662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55640" y="-54360"/>
            <a:ext cx="7920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Продолжите ряд чисел – допишите 4 числ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А) 18,9,16,8,….                                      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Б) 27,32,37,42….    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В) 1,2,3,5,8,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i="1" lang="en-US" sz="7200" spc="-1" strike="noStrike">
                <a:solidFill>
                  <a:srgbClr val="ffffff"/>
                </a:solidFill>
                <a:latin typeface="Comic Sans MS"/>
              </a:rPr>
              <a:t>Проверь себя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А) 18,9,16,8,14,7,12,6,10,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                                       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Б) 27,32,37,42,47,52,57,6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66ff66"/>
                </a:solidFill>
                <a:latin typeface="Comic Sans MS"/>
              </a:rPr>
              <a:t>В) 1,2,3,5,8,13,21,34,5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39640" y="-316080"/>
            <a:ext cx="4176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Задание №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тание коп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500720" y="333360"/>
            <a:ext cx="4103640" cy="28065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4500720" y="3357720"/>
            <a:ext cx="4103640" cy="316692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4"/>
          <a:stretch/>
        </p:blipFill>
        <p:spPr>
          <a:xfrm>
            <a:off x="324000" y="1989000"/>
            <a:ext cx="3671640" cy="3384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411120" y="5433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080" y="544500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Мария Абакумова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Олимпийская чемпио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108000" y="426960"/>
            <a:ext cx="9345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сставьте математические знаки, которые нужно использовать при выполнении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увелич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на несколько един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величить в несколько р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уменьшить в несколько ра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бо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на сколько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бо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- во сколько раз мен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2664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увеличить на несколько единиц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на несколько единиц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величить в несколько раз(·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уменьшить в несколько раз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бол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на сколько меньше(-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больше 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 во сколько раз меньше(: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55640" y="-2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Задание №7.                     Бег с препятствия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3632040" y="3860640"/>
            <a:ext cx="2524320" cy="26640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108000" y="3141720"/>
            <a:ext cx="3190680" cy="3456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3490920" y="1557360"/>
            <a:ext cx="2952720" cy="20955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5"/>
          <a:stretch/>
        </p:blipFill>
        <p:spPr>
          <a:xfrm>
            <a:off x="6588000" y="2998800"/>
            <a:ext cx="24256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43080" cy="3213000"/>
          </a:xfrm>
          <a:prstGeom prst="rect">
            <a:avLst/>
          </a:prstGeom>
          <a:ln w="0">
            <a:noFill/>
          </a:ln>
        </p:spPr>
      </p:pic>
      <p:pic>
        <p:nvPicPr>
          <p:cNvPr id="375" name="img_0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2397240" cy="32400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1397160"/>
            <a:ext cx="8286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илась в Набережных Челнах, Татарстан. Выступает в беге на 1500 и 5000 м, неоднократно становилась чемпионкой России на этих дистанциях, однако коронным видом Гульнары является стипль-чез — бег с препятствиями на 3000 м. В этом виде легкоатлетической программы ей принадлежит рекорд мира, установленный в 2004 году, и побитый ей же на Олимпиаде в Пекине.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503280" y="290520"/>
            <a:ext cx="953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ульнара Самитова-Галк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Решите задачи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В соревнованиях по бегу Антон, Кирилл и                     Слава заняли первые три места. Какое место занял каждый из ребят, если Кирилл занял не второе и не третье, а Слава не третье мес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На уроке физкультуры нужно было прыгнуть в длину с места на 90 см. В первый раз Даше не хватило до нормы 20 см. Во второй она перепрыгнула норму на 2 см. На сколько см второй результат Даши больше первого?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296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1114200" y="1889280"/>
            <a:ext cx="799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группа объединённых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портивных состязаний,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состоящих из  упражнений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в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одном каком –либо или 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нескольких видах спор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omic Sans MS"/>
              </a:rPr>
              <a:t>(Толковый словарь. Ушаков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484360" y="1243080"/>
            <a:ext cx="5761080" cy="110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Многоборье -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i="1" lang="en-US" sz="5400" spc="-1" strike="noStrike">
                <a:solidFill>
                  <a:srgbClr val="ffffff"/>
                </a:solidFill>
                <a:latin typeface="Comic Sans MS"/>
              </a:rPr>
              <a:t>Проверьте себ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место – Кирил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место – Сла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место – Ант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задач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результат – 70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результат – 92 с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вет: больше на 22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5120" y="-100080"/>
            <a:ext cx="8624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8.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  Синхронное плавани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442880" y="1411200"/>
            <a:ext cx="2408400" cy="2881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500720" y="1413000"/>
            <a:ext cx="2382840" cy="28605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141120" y="4387680"/>
            <a:ext cx="3062520" cy="23544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5076720" y="4394160"/>
            <a:ext cx="395136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539640" y="304560"/>
            <a:ext cx="79790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На сколько частей разделится лист бумаги четырьмя прямыми линиями, проходящими через одну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думайте, как разрезать эту фигуру на 4 равные и одинаковые по форме части, чтобы сумма чисел в каждой из них равнялось 20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2700360" y="2797200"/>
          <a:ext cx="3887280" cy="3681000"/>
        </p:xfrm>
        <a:graphic>
          <a:graphicData uri="http://schemas.openxmlformats.org/drawingml/2006/table">
            <a:tbl>
              <a:tblPr/>
              <a:tblGrid>
                <a:gridCol w="971640"/>
                <a:gridCol w="972360"/>
                <a:gridCol w="971640"/>
                <a:gridCol w="971640"/>
              </a:tblGrid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2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8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1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108000" y="228600"/>
            <a:ext cx="855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omic Sans MS"/>
              </a:rPr>
              <a:t>Задание № 9 – Фехтование</a:t>
            </a:r>
            <a:r>
              <a:rPr b="0" lang="en-US" sz="3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643280" y="3170160"/>
            <a:ext cx="4067280" cy="30672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53708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ыпишите числа которые находятс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команда: в          ,           и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команда: в     и         , но не в      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команда: не в           и не в    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03640" y="1700280"/>
            <a:ext cx="863640" cy="4334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500720" y="1773360"/>
            <a:ext cx="8632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1628640"/>
            <a:ext cx="360360" cy="43200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2276640"/>
            <a:ext cx="43164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67280" y="2349360"/>
            <a:ext cx="720720" cy="287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88000" y="2349360"/>
            <a:ext cx="863640" cy="287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2852640"/>
            <a:ext cx="107964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29440" y="2852640"/>
            <a:ext cx="503280" cy="3603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00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24000" y="3500280"/>
            <a:ext cx="4537080" cy="1511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3573360"/>
            <a:ext cx="1800360" cy="295128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35280" y="4365720"/>
            <a:ext cx="4032360" cy="1657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500720" y="4437000"/>
            <a:ext cx="504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348000" y="501336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59640" y="4292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06920" y="4365720"/>
            <a:ext cx="50508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56000" y="4221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92436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211640" y="465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96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932360" y="4005360"/>
            <a:ext cx="574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75280" y="39258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3640" y="4365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003640" y="4653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5157720"/>
            <a:ext cx="86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3280" y="609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         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4508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530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68360" y="515772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0328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32720" y="3645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 rot="19942800">
            <a:off x="-396720" y="2592000"/>
            <a:ext cx="2009520" cy="2131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 rot="1426800">
            <a:off x="7249680" y="2519280"/>
            <a:ext cx="1785960" cy="2133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1403280" y="1292400"/>
            <a:ext cx="5977080" cy="55656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700" spc="-1" strike="noStrike">
                <a:solidFill>
                  <a:srgbClr val="ffffff"/>
                </a:solidFill>
                <a:latin typeface="Comic Sans MS"/>
              </a:rPr>
              <a:t>Задание №1. Разминка.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Наибольшее двузнач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Какова продолжительность трёх периодов хоккейного матч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У какого слона нет хобо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66ff66"/>
                </a:solidFill>
                <a:latin typeface="Comic Sans MS"/>
              </a:rPr>
              <a:t>- На какой счёт в знаменитой считалке вышел зайчик  погуля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66ff66"/>
                </a:solidFill>
                <a:latin typeface="Arial"/>
              </a:rPr>
              <a:t>-Стоит в поле дуб. На дубе три яблока. Ехал добрый молодец и сорвал одно яблоко. Сколько яблок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539280" y="43920"/>
            <a:ext cx="7559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Задание №2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Стрельба из лу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0" y="4070520"/>
            <a:ext cx="3203640" cy="27874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5724360" y="4033800"/>
            <a:ext cx="345600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79280" y="31845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0000" y="50356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2060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3666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59280" y="532296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236000" y="46530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35640" y="575460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77080" y="12682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85080" y="306864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673600" y="2801880"/>
            <a:ext cx="914400" cy="9144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755280" y="4098960"/>
            <a:ext cx="360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3595680"/>
            <a:ext cx="208764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476360" y="3019320"/>
            <a:ext cx="5745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1692360" y="4530600"/>
            <a:ext cx="79200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2484360" y="30189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156360" y="206064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96360" y="213372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6227280" y="3644640"/>
            <a:ext cx="1081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885080" y="4076280"/>
            <a:ext cx="358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300720" y="537336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6000" y="111240"/>
            <a:ext cx="838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Расставьте любые цифры в кружки так, чтобы стрелка всегда была направлена от кружка с большей цифрой к кружку с меньш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3564000" y="1484280"/>
            <a:ext cx="1193760" cy="2808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3851280" y="3546360"/>
            <a:ext cx="18064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066400" y="228600"/>
            <a:ext cx="6177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Задание № 3. 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Comic Sans MS"/>
              </a:rPr>
              <a:t>   Эстафе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4032000" cy="3384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4643280" y="3284640"/>
            <a:ext cx="4176720" cy="33224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4788000" y="152712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вать числ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атные 5, 6, 7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-459000"/>
            <a:ext cx="74167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Задание №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Прыжки в высо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4608360" cy="3743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5580000" y="1197000"/>
            <a:ext cx="3097440" cy="51116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324000" y="5084640"/>
            <a:ext cx="83534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105080" cy="38876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4392360" cy="4032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24000" y="1303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Елена Исинбаева – многократная Олимпийская чемпи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683160" y="3716280"/>
            <a:ext cx="196848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0" y="1384200"/>
            <a:ext cx="9180360" cy="54738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108000" y="549360"/>
            <a:ext cx="925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ffffff"/>
                </a:solidFill>
                <a:latin typeface="Comic Sans MS"/>
              </a:rPr>
              <a:t>Расставь знаки и скобки так, чтобы       получились верные равенства.</a:t>
            </a:r>
            <a:br>
              <a:rPr sz="3700"/>
            </a:b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06160" y="1773000"/>
            <a:ext cx="388620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 4 4 4 =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2:01:24Z</dcterms:created>
  <dc:creator>user</dc:creator>
  <dc:description/>
  <dc:language>en-US</dc:language>
  <cp:lastModifiedBy>user</cp:lastModifiedBy>
  <dcterms:modified xsi:type="dcterms:W3CDTF">2011-11-26T15:44:38Z</dcterms:modified>
  <cp:revision>18</cp:revision>
  <dc:subject/>
  <dc:title>Слайд 1</dc:title>
</cp:coreProperties>
</file>